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EE4-33C6-4F9D-9E7E-B249C88C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07E-2EC7-484D-BAA1-8227B784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9FC-8452-4F62-A7B6-8FC06F52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CCE-BC4C-4868-B34C-EBC832BF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047-6747-469C-9412-FD6FE0D5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C8C-05E4-4FEC-9101-A577D211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14F-2891-4EC6-A1F8-31A76077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D0E-3CAB-4EE2-8CA8-9BD5B1F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46C-AEC0-422F-887A-8568298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7A8-47A6-429E-8625-CD47815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D0D-58DE-486B-AB25-9DDC0D0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B2B-215C-4E0E-8DA8-E14DD2F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01C-03F8-4554-A28C-CF0ED2F0B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63;&#1090;&#1086;%20&#1090;&#1072;&#1082;&#1086;&#1077;%20&#1072;&#1083;&#1075;&#1086;&#1088;&#1080;&#1090;&#1084;.mp4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28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23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194760"/>
            <a:ext cx="4895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верка домашнего задания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ригами</a:t>
            </a:r>
            <a:br>
              <a:rPr sz="32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аб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как сделать бумажный кораблик - Яндекс.Картинки #yandeximages | Закладки  своими руками, Бумажные шаблоны, Кораблики своими руками"/>
          <p:cNvPicPr/>
          <p:nvPr/>
        </p:nvPicPr>
        <p:blipFill>
          <a:blip r:embed="rId1"/>
          <a:stretch/>
        </p:blipFill>
        <p:spPr>
          <a:xfrm>
            <a:off x="5148360" y="144360"/>
            <a:ext cx="383364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Как сделать кораблик из бумаги своими руками. Легкое оригами &quot;бумажная  лодка&quot;. Поделки. - YouTube"/>
          <p:cNvPicPr/>
          <p:nvPr/>
        </p:nvPicPr>
        <p:blipFill>
          <a:blip r:embed="rId2"/>
          <a:stretch/>
        </p:blipFill>
        <p:spPr>
          <a:xfrm>
            <a:off x="264960" y="221148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584800" y="4516560"/>
            <a:ext cx="36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ttps://studio.code.org/s/course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2261520" y="386712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 урок. Художник. Последов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9010" r="1629" b="4955"/>
          <a:stretch/>
        </p:blipFill>
        <p:spPr>
          <a:xfrm>
            <a:off x="1627200" y="936720"/>
            <a:ext cx="56689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3" descr=""/>
          <p:cNvPicPr/>
          <p:nvPr/>
        </p:nvPicPr>
        <p:blipFill>
          <a:blip r:embed="rId1"/>
          <a:stretch/>
        </p:blipFill>
        <p:spPr>
          <a:xfrm>
            <a:off x="4389480" y="420840"/>
            <a:ext cx="4486320" cy="242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9440" y="4179600"/>
            <a:ext cx="57942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информатики МБОУ «СОШ №2 с. Шаран»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Шавалеева Галина Валерьевна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. Шаран - 202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400" y="0"/>
            <a:ext cx="676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рок информатики в 6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6000" y="25718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Цель урока: </a:t>
            </a:r>
            <a:r>
              <a:rPr b="0" lang="ru-RU" sz="2400" spc="-1" strike="noStrike">
                <a:solidFill>
                  <a:srgbClr val="17375e"/>
                </a:solidFill>
                <a:latin typeface="Constantia"/>
              </a:rPr>
              <a:t>выяснить, что такое Алгорит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nstantia"/>
              </a:rPr>
              <a:t>где в реальной жизни мы с ним встречаемся, что означает выражение “Исполнитель алгоритм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16310" t="18145" r="18414" b="13091"/>
          <a:stretch/>
        </p:blipFill>
        <p:spPr>
          <a:xfrm>
            <a:off x="108000" y="268200"/>
            <a:ext cx="562608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3"/>
          <p:cNvSpPr/>
          <p:nvPr/>
        </p:nvSpPr>
        <p:spPr>
          <a:xfrm>
            <a:off x="6084720" y="123840"/>
            <a:ext cx="2914920" cy="4914720"/>
          </a:xfrm>
          <a:custGeom>
            <a:avLst/>
            <a:gdLst>
              <a:gd name="textAreaLeft" fmla="*/ 142200 w 2914920"/>
              <a:gd name="textAreaRight" fmla="*/ 2772720 w 2914920"/>
              <a:gd name="textAreaTop" fmla="*/ 142200 h 4914720"/>
              <a:gd name="textAreaBottom" fmla="*/ 4772520 h 4914720"/>
            </a:gdLst>
            <a:ahLst/>
            <a:rect l="textAreaLeft" t="textAreaTop" r="textAreaRight" b="textAreaBottom"/>
            <a:pathLst>
              <a:path w="21600" h="36417">
                <a:moveTo>
                  <a:pt x="3600" y="0"/>
                </a:moveTo>
                <a:arcTo wR="3600" hR="3600" stAng="16200000" swAng="-5400000"/>
                <a:lnTo>
                  <a:pt x="0" y="32817"/>
                </a:lnTo>
                <a:arcTo wR="3600" hR="3600" stAng="10800000" swAng="-5400000"/>
                <a:lnTo>
                  <a:pt x="18000" y="36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caab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− 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6611/137106206.13e/0_92fae_8ceac1b5_orig.jpg"/>
          <p:cNvPicPr/>
          <p:nvPr/>
        </p:nvPicPr>
        <p:blipFill>
          <a:blip r:embed="rId1"/>
          <a:stretch/>
        </p:blipFill>
        <p:spPr>
          <a:xfrm>
            <a:off x="353880" y="914400"/>
            <a:ext cx="3718080" cy="39258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4"/>
          <p:cNvSpPr/>
          <p:nvPr/>
        </p:nvSpPr>
        <p:spPr>
          <a:xfrm>
            <a:off x="4906800" y="995400"/>
            <a:ext cx="2535480" cy="2927160"/>
          </a:xfrm>
          <a:custGeom>
            <a:avLst/>
            <a:gdLst>
              <a:gd name="textAreaLeft" fmla="*/ 123480 w 2535480"/>
              <a:gd name="textAreaRight" fmla="*/ 2412000 w 2535480"/>
              <a:gd name="textAreaTop" fmla="*/ 123480 h 2927160"/>
              <a:gd name="textAreaBottom" fmla="*/ 2803680 h 2927160"/>
            </a:gdLst>
            <a:ahLst/>
            <a:rect l="textAreaLeft" t="textAreaTop" r="textAreaRight" b="textAreaBottom"/>
            <a:pathLst>
              <a:path w="21600" h="24936">
                <a:moveTo>
                  <a:pt x="3600" y="0"/>
                </a:moveTo>
                <a:arcTo wR="3600" hR="3600" stAng="16200000" swAng="-5400000"/>
                <a:lnTo>
                  <a:pt x="0" y="21336"/>
                </a:lnTo>
                <a:arcTo wR="3600" hR="3600" stAng="10800000" swAng="-5400000"/>
                <a:lnTo>
                  <a:pt x="18000" y="24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"/>
          <p:cNvSpPr/>
          <p:nvPr/>
        </p:nvSpPr>
        <p:spPr>
          <a:xfrm>
            <a:off x="366840" y="166680"/>
            <a:ext cx="3779640" cy="642960"/>
          </a:xfrm>
          <a:prstGeom prst="roundRect">
            <a:avLst>
              <a:gd name="adj" fmla="val 16667"/>
            </a:avLst>
          </a:prstGeom>
          <a:solidFill>
            <a:srgbClr val="f7caab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у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ь-Хорез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thelib.ru/books/00/11/77/00117715/i_002.jpg"/>
          <p:cNvPicPr/>
          <p:nvPr/>
        </p:nvPicPr>
        <p:blipFill>
          <a:blip r:embed="rId3"/>
          <a:stretch/>
        </p:blipFill>
        <p:spPr>
          <a:xfrm>
            <a:off x="5165640" y="1154160"/>
            <a:ext cx="2000160" cy="2611440"/>
          </a:xfrm>
          <a:prstGeom prst="rect">
            <a:avLst/>
          </a:prstGeom>
          <a:ln w="9360">
            <a:solidFill>
              <a:srgbClr val="678658"/>
            </a:solidFill>
            <a:miter/>
          </a:ln>
        </p:spPr>
      </p:pic>
      <p:sp>
        <p:nvSpPr>
          <p:cNvPr id="54" name="Скругленный прямоугольник 5"/>
          <p:cNvSpPr/>
          <p:nvPr/>
        </p:nvSpPr>
        <p:spPr>
          <a:xfrm>
            <a:off x="4906800" y="166680"/>
            <a:ext cx="384192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горит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7"/>
          <p:cNvSpPr/>
          <p:nvPr/>
        </p:nvSpPr>
        <p:spPr>
          <a:xfrm>
            <a:off x="7721640" y="995400"/>
            <a:ext cx="1027080" cy="2927160"/>
          </a:xfrm>
          <a:custGeom>
            <a:avLst/>
            <a:gdLst>
              <a:gd name="textAreaLeft" fmla="*/ 50040 w 1027080"/>
              <a:gd name="textAreaRight" fmla="*/ 977040 w 1027080"/>
              <a:gd name="textAreaTop" fmla="*/ 50040 h 2927160"/>
              <a:gd name="textAreaBottom" fmla="*/ 2877120 h 2927160"/>
            </a:gdLst>
            <a:ahLst/>
            <a:rect l="textAreaLeft" t="textAreaTop" r="textAreaRight" b="textAreaBottom"/>
            <a:pathLst>
              <a:path w="21600" h="61546">
                <a:moveTo>
                  <a:pt x="3600" y="0"/>
                </a:moveTo>
                <a:arcTo wR="3600" hR="3600" stAng="16200000" swAng="-5400000"/>
                <a:lnTo>
                  <a:pt x="0" y="57946"/>
                </a:lnTo>
                <a:arcTo wR="3600" hR="3600" stAng="10800000" swAng="-5400000"/>
                <a:lnTo>
                  <a:pt x="18000" y="61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8"/>
          <p:cNvSpPr/>
          <p:nvPr/>
        </p:nvSpPr>
        <p:spPr>
          <a:xfrm>
            <a:off x="4906800" y="4110120"/>
            <a:ext cx="384192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ы о счёте индийс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7857360" y="1146240"/>
            <a:ext cx="755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8000" y="123840"/>
            <a:ext cx="8928000" cy="501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команда- 1 ря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 пожарить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котлеты з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минуты, если каждая сторона котлеты жарится по одной минуте, а на сковородку помещается только две котлет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команда – 2 ря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2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полнитель Вычислитель умеет выполнять только две коман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ножать на 2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бавлять 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пишите для него наиболее короткий алгоритм получения из чис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числ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26784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1 коман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а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жарим две котлеты с одной сторон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тора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дну котлету переворачиваем, вторую убираем со сковородки, кладем жариться третью котле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ть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ую (готовую) котлету убираем, кладем вторую (недожаренную с одной стороны) и дожариваем до ко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2 коман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0+1=1;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*2=2;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*2=4;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4+1=5;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5*2=10;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0+1=11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1+1=12;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2*2=24;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4+1=25;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5*2=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9640" y="26784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058400"/>
            <a:ext cx="8891640" cy="34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ое выражение из записанных на доске характеризуют ваши ощущения после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всё понял, могу объяснить, был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всё понял, могу объясн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ё понял, но не объяс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 меня остались вопросы, но был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ничего не понял, было не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27000" y="515880"/>
            <a:ext cx="2168640" cy="42562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4"/>
          <p:cNvSpPr/>
          <p:nvPr/>
        </p:nvSpPr>
        <p:spPr>
          <a:xfrm>
            <a:off x="2124000" y="36360"/>
            <a:ext cx="6989760" cy="5107320"/>
          </a:xfrm>
          <a:prstGeom prst="roundRect">
            <a:avLst>
              <a:gd name="adj" fmla="val 16667"/>
            </a:avLst>
          </a:prstGeom>
          <a:solidFill>
            <a:srgbClr val="fbe0cd"/>
          </a:solidFill>
          <a:ln w="25560">
            <a:solidFill>
              <a:srgbClr val="f9d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ом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называется конечная последовательность шагов в решении задачи, приводящая от исходных данных к требуемому результ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анды должны выполняться последовательно, в порядке их записи в алгорит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алгоритмами мы сталкиваемся практически везде: в учебе и для решения повседневных зада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итель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это устройство или живое существо, способное выполнить действия, предписываемые алгорит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58"/>
          <p:cNvSpPr/>
          <p:nvPr/>
        </p:nvSpPr>
        <p:spPr>
          <a:xfrm>
            <a:off x="241200" y="2054160"/>
            <a:ext cx="158292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59"/>
          <p:cNvSpPr/>
          <p:nvPr/>
        </p:nvSpPr>
        <p:spPr>
          <a:xfrm>
            <a:off x="2003400" y="20620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60"/>
          <p:cNvSpPr/>
          <p:nvPr/>
        </p:nvSpPr>
        <p:spPr>
          <a:xfrm>
            <a:off x="3780000" y="206208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1"/>
          <p:cNvSpPr/>
          <p:nvPr/>
        </p:nvSpPr>
        <p:spPr>
          <a:xfrm>
            <a:off x="5551560" y="205092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62"/>
          <p:cNvSpPr/>
          <p:nvPr/>
        </p:nvSpPr>
        <p:spPr>
          <a:xfrm>
            <a:off x="7291440" y="203832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лако 32"/>
          <p:cNvSpPr/>
          <p:nvPr/>
        </p:nvSpPr>
        <p:spPr>
          <a:xfrm rot="21181800">
            <a:off x="1050840" y="2550960"/>
            <a:ext cx="13500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F:\рисунки Png\0012.png"/>
          <p:cNvPicPr/>
          <p:nvPr/>
        </p:nvPicPr>
        <p:blipFill>
          <a:blip r:embed="rId1"/>
          <a:stretch/>
        </p:blipFill>
        <p:spPr>
          <a:xfrm>
            <a:off x="7469280" y="2046240"/>
            <a:ext cx="1198440" cy="102240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42"/>
          <p:cNvGrpSpPr/>
          <p:nvPr/>
        </p:nvGrpSpPr>
        <p:grpSpPr>
          <a:xfrm>
            <a:off x="2260080" y="2158920"/>
            <a:ext cx="1071720" cy="942840"/>
            <a:chOff x="2260080" y="2158920"/>
            <a:chExt cx="1071720" cy="942840"/>
          </a:xfrm>
        </p:grpSpPr>
        <p:pic>
          <p:nvPicPr>
            <p:cNvPr id="72" name="Picture 2" descr="F:\рисунки Png\0547 б.png"/>
            <p:cNvPicPr/>
            <p:nvPr/>
          </p:nvPicPr>
          <p:blipFill>
            <a:blip r:embed="rId2"/>
            <a:stretch/>
          </p:blipFill>
          <p:spPr>
            <a:xfrm flipH="1">
              <a:off x="2260080" y="2158920"/>
              <a:ext cx="1071720" cy="8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" descr="F:\рисунки Png\233 рука.png"/>
            <p:cNvPicPr/>
            <p:nvPr/>
          </p:nvPicPr>
          <p:blipFill>
            <a:blip r:embed="rId3"/>
            <a:stretch/>
          </p:blipFill>
          <p:spPr>
            <a:xfrm rot="20048400">
              <a:off x="2630160" y="2814480"/>
              <a:ext cx="21132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F:\рисунки Png\233 рука.png"/>
            <p:cNvPicPr/>
            <p:nvPr/>
          </p:nvPicPr>
          <p:blipFill>
            <a:blip r:embed="rId4"/>
            <a:stretch/>
          </p:blipFill>
          <p:spPr>
            <a:xfrm>
              <a:off x="2883240" y="2700360"/>
              <a:ext cx="316800" cy="3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50"/>
          <p:cNvGrpSpPr/>
          <p:nvPr/>
        </p:nvGrpSpPr>
        <p:grpSpPr>
          <a:xfrm>
            <a:off x="3911400" y="2111400"/>
            <a:ext cx="1176120" cy="987840"/>
            <a:chOff x="3911400" y="2111400"/>
            <a:chExt cx="1176120" cy="987840"/>
          </a:xfrm>
        </p:grpSpPr>
        <p:pic>
          <p:nvPicPr>
            <p:cNvPr id="76" name="Picture 2" descr="F:\рисунки Png\0547 б.png"/>
            <p:cNvPicPr/>
            <p:nvPr/>
          </p:nvPicPr>
          <p:blipFill>
            <a:blip r:embed="rId5"/>
            <a:stretch/>
          </p:blipFill>
          <p:spPr>
            <a:xfrm flipH="1">
              <a:off x="3911400" y="2111400"/>
              <a:ext cx="1176120" cy="92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F:\рисунки Png\233 рука.png"/>
            <p:cNvPicPr/>
            <p:nvPr/>
          </p:nvPicPr>
          <p:blipFill>
            <a:blip r:embed="rId6"/>
            <a:stretch/>
          </p:blipFill>
          <p:spPr>
            <a:xfrm rot="20048400">
              <a:off x="4317480" y="2796840"/>
              <a:ext cx="23184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F:\рисунки Png\233 рука.png"/>
            <p:cNvPicPr/>
            <p:nvPr/>
          </p:nvPicPr>
          <p:blipFill>
            <a:blip r:embed="rId7"/>
            <a:stretch/>
          </p:blipFill>
          <p:spPr>
            <a:xfrm>
              <a:off x="4596480" y="2676240"/>
              <a:ext cx="34128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" descr="F:\рисунки Png\0547 б.png"/>
          <p:cNvPicPr/>
          <p:nvPr/>
        </p:nvPicPr>
        <p:blipFill>
          <a:blip r:embed="rId8"/>
          <a:stretch/>
        </p:blipFill>
        <p:spPr>
          <a:xfrm>
            <a:off x="5745240" y="2120760"/>
            <a:ext cx="1173240" cy="89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:\рисунки Png\0377.png"/>
          <p:cNvPicPr/>
          <p:nvPr/>
        </p:nvPicPr>
        <p:blipFill>
          <a:blip r:embed="rId9"/>
          <a:stretch/>
        </p:blipFill>
        <p:spPr>
          <a:xfrm rot="19673400">
            <a:off x="6540120" y="2680920"/>
            <a:ext cx="168120" cy="28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рисунки Png\0377.png"/>
          <p:cNvPicPr/>
          <p:nvPr/>
        </p:nvPicPr>
        <p:blipFill>
          <a:blip r:embed="rId10"/>
          <a:stretch/>
        </p:blipFill>
        <p:spPr>
          <a:xfrm flipH="1" rot="20854800">
            <a:off x="6198480" y="2757600"/>
            <a:ext cx="179280" cy="289080"/>
          </a:xfrm>
          <a:prstGeom prst="rect">
            <a:avLst/>
          </a:prstGeom>
          <a:ln w="0">
            <a:noFill/>
          </a:ln>
        </p:spPr>
      </p:pic>
      <p:grpSp>
        <p:nvGrpSpPr>
          <p:cNvPr id="82" name="Молния 72"/>
          <p:cNvGrpSpPr/>
          <p:nvPr/>
        </p:nvGrpSpPr>
        <p:grpSpPr>
          <a:xfrm>
            <a:off x="6480000" y="2610000"/>
            <a:ext cx="79560" cy="126720"/>
            <a:chOff x="6480000" y="2610000"/>
            <a:chExt cx="79560" cy="126720"/>
          </a:xfrm>
        </p:grpSpPr>
        <p:pic>
          <p:nvPicPr>
            <p:cNvPr id="83" name="Молния 72" descr=""/>
            <p:cNvPicPr/>
            <p:nvPr/>
          </p:nvPicPr>
          <p:blipFill>
            <a:blip r:embed="rId11"/>
            <a:stretch/>
          </p:blipFill>
          <p:spPr>
            <a:xfrm>
              <a:off x="6480000" y="2610000"/>
              <a:ext cx="7956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13398600">
              <a:off x="6519600" y="2657160"/>
              <a:ext cx="1116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Молния 73"/>
          <p:cNvGrpSpPr/>
          <p:nvPr/>
        </p:nvGrpSpPr>
        <p:grpSpPr>
          <a:xfrm>
            <a:off x="6242040" y="2610000"/>
            <a:ext cx="36360" cy="152280"/>
            <a:chOff x="6242040" y="2610000"/>
            <a:chExt cx="36360" cy="152280"/>
          </a:xfrm>
        </p:grpSpPr>
        <p:pic>
          <p:nvPicPr>
            <p:cNvPr id="86" name="Молния 73" descr=""/>
            <p:cNvPicPr/>
            <p:nvPr/>
          </p:nvPicPr>
          <p:blipFill>
            <a:blip r:embed="rId12"/>
            <a:stretch/>
          </p:blipFill>
          <p:spPr>
            <a:xfrm>
              <a:off x="6242040" y="2610000"/>
              <a:ext cx="363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11686200">
              <a:off x="6253920" y="2665080"/>
              <a:ext cx="111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Молния 74"/>
          <p:cNvGrpSpPr/>
          <p:nvPr/>
        </p:nvGrpSpPr>
        <p:grpSpPr>
          <a:xfrm>
            <a:off x="6370560" y="2620800"/>
            <a:ext cx="49320" cy="135000"/>
            <a:chOff x="6370560" y="2620800"/>
            <a:chExt cx="49320" cy="135000"/>
          </a:xfrm>
        </p:grpSpPr>
        <p:pic>
          <p:nvPicPr>
            <p:cNvPr id="89" name="Молния 74" descr=""/>
            <p:cNvPicPr/>
            <p:nvPr/>
          </p:nvPicPr>
          <p:blipFill>
            <a:blip r:embed="rId13"/>
            <a:stretch/>
          </p:blipFill>
          <p:spPr>
            <a:xfrm>
              <a:off x="6370560" y="2620800"/>
              <a:ext cx="49320" cy="1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12337200">
              <a:off x="6392520" y="2671560"/>
              <a:ext cx="111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иконка checkmark, флажок, галочка,"/>
          <p:cNvPicPr/>
          <p:nvPr/>
        </p:nvPicPr>
        <p:blipFill>
          <a:blip r:embed="rId14"/>
          <a:stretch/>
        </p:blipFill>
        <p:spPr>
          <a:xfrm>
            <a:off x="3313080" y="2166840"/>
            <a:ext cx="250920" cy="25236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79"/>
          <p:cNvSpPr/>
          <p:nvPr/>
        </p:nvSpPr>
        <p:spPr>
          <a:xfrm rot="21181800">
            <a:off x="4699080" y="2852640"/>
            <a:ext cx="13644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блако 80"/>
          <p:cNvSpPr/>
          <p:nvPr/>
        </p:nvSpPr>
        <p:spPr>
          <a:xfrm flipV="1" rot="21182400">
            <a:off x="4440240" y="2952000"/>
            <a:ext cx="71280" cy="82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1.iconbird.com/ico/0612/GooglePlusInterfaceIcons/w128h1281338911337cross.png"/>
          <p:cNvPicPr/>
          <p:nvPr/>
        </p:nvPicPr>
        <p:blipFill>
          <a:blip r:embed="rId15"/>
          <a:stretch/>
        </p:blipFill>
        <p:spPr>
          <a:xfrm>
            <a:off x="1525680" y="21319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рисунки Png\0170 мальчик 2 (1).png"/>
          <p:cNvPicPr/>
          <p:nvPr/>
        </p:nvPicPr>
        <p:blipFill>
          <a:blip r:embed="rId16"/>
          <a:stretch/>
        </p:blipFill>
        <p:spPr>
          <a:xfrm>
            <a:off x="773280" y="2089080"/>
            <a:ext cx="5457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63"/>
          <p:cNvSpPr/>
          <p:nvPr/>
        </p:nvSpPr>
        <p:spPr>
          <a:xfrm>
            <a:off x="22536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64"/>
          <p:cNvSpPr/>
          <p:nvPr/>
        </p:nvSpPr>
        <p:spPr>
          <a:xfrm>
            <a:off x="199404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41200" y="398520"/>
            <a:ext cx="158292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003400" y="40644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3780000" y="40644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5551560" y="39996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7"/>
          <p:cNvSpPr/>
          <p:nvPr/>
        </p:nvSpPr>
        <p:spPr>
          <a:xfrm>
            <a:off x="7308720" y="403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рисунки Png\0123 ученик за компом.png"/>
          <p:cNvPicPr/>
          <p:nvPr/>
        </p:nvPicPr>
        <p:blipFill>
          <a:blip r:embed="rId17"/>
          <a:stretch/>
        </p:blipFill>
        <p:spPr>
          <a:xfrm>
            <a:off x="487440" y="403200"/>
            <a:ext cx="1054080" cy="969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рисунки Png\0129 ученик за компом неправ.png"/>
          <p:cNvPicPr/>
          <p:nvPr/>
        </p:nvPicPr>
        <p:blipFill>
          <a:blip r:embed="rId18"/>
          <a:stretch/>
        </p:blipFill>
        <p:spPr>
          <a:xfrm>
            <a:off x="2352600" y="434880"/>
            <a:ext cx="928800" cy="93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:\рисунки Png\0266 зацепился.png"/>
          <p:cNvPicPr/>
          <p:nvPr/>
        </p:nvPicPr>
        <p:blipFill>
          <a:blip r:embed="rId19"/>
          <a:stretch/>
        </p:blipFill>
        <p:spPr>
          <a:xfrm>
            <a:off x="4106880" y="415800"/>
            <a:ext cx="896760" cy="97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рисунки Png\0170 мальчик 2.png"/>
          <p:cNvPicPr/>
          <p:nvPr/>
        </p:nvPicPr>
        <p:blipFill>
          <a:blip r:embed="rId20"/>
          <a:stretch/>
        </p:blipFill>
        <p:spPr>
          <a:xfrm>
            <a:off x="6049800" y="425520"/>
            <a:ext cx="557280" cy="95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F:\рисунки Png\0378 №109 (1) .png"/>
          <p:cNvPicPr/>
          <p:nvPr/>
        </p:nvPicPr>
        <p:blipFill>
          <a:blip r:embed="rId21"/>
          <a:stretch/>
        </p:blipFill>
        <p:spPr>
          <a:xfrm rot="17652000">
            <a:off x="5908680" y="771120"/>
            <a:ext cx="627120" cy="627120"/>
          </a:xfrm>
          <a:prstGeom prst="rect">
            <a:avLst/>
          </a:prstGeom>
          <a:ln w="0">
            <a:noFill/>
          </a:ln>
        </p:spPr>
      </p:pic>
      <p:sp>
        <p:nvSpPr>
          <p:cNvPr id="108" name="Облако 33"/>
          <p:cNvSpPr/>
          <p:nvPr/>
        </p:nvSpPr>
        <p:spPr>
          <a:xfrm flipV="1" rot="21182400">
            <a:off x="965160" y="2442600"/>
            <a:ext cx="63720" cy="1414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блако 34"/>
          <p:cNvSpPr/>
          <p:nvPr/>
        </p:nvSpPr>
        <p:spPr>
          <a:xfrm rot="21181800">
            <a:off x="1023480" y="2439720"/>
            <a:ext cx="138240" cy="112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блако 36"/>
          <p:cNvSpPr/>
          <p:nvPr/>
        </p:nvSpPr>
        <p:spPr>
          <a:xfrm rot="21181800">
            <a:off x="919080" y="2933280"/>
            <a:ext cx="68400" cy="46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блако 37"/>
          <p:cNvSpPr/>
          <p:nvPr/>
        </p:nvSpPr>
        <p:spPr>
          <a:xfrm rot="21181800">
            <a:off x="1056960" y="2601720"/>
            <a:ext cx="71280" cy="45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\\USER-PC-15\Disk D\projects\Руслан\рисунки Png\0013.png"/>
          <p:cNvPicPr/>
          <p:nvPr/>
        </p:nvPicPr>
        <p:blipFill>
          <a:blip r:embed="rId22"/>
          <a:stretch/>
        </p:blipFill>
        <p:spPr>
          <a:xfrm>
            <a:off x="430200" y="3687840"/>
            <a:ext cx="1095480" cy="101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рисунки Png\0170 мальчик 2.png"/>
          <p:cNvPicPr/>
          <p:nvPr/>
        </p:nvPicPr>
        <p:blipFill>
          <a:blip r:embed="rId23"/>
          <a:stretch/>
        </p:blipFill>
        <p:spPr>
          <a:xfrm>
            <a:off x="7805880" y="412920"/>
            <a:ext cx="556920" cy="95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рисунки Png\0228 торт.png"/>
          <p:cNvPicPr/>
          <p:nvPr/>
        </p:nvPicPr>
        <p:blipFill>
          <a:blip r:embed="rId24"/>
          <a:stretch/>
        </p:blipFill>
        <p:spPr>
          <a:xfrm>
            <a:off x="7632720" y="663480"/>
            <a:ext cx="320760" cy="1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рисунки Png\0010варвар ТБ.png"/>
          <p:cNvPicPr/>
          <p:nvPr/>
        </p:nvPicPr>
        <p:blipFill>
          <a:blip r:embed="rId25"/>
          <a:stretch/>
        </p:blipFill>
        <p:spPr>
          <a:xfrm>
            <a:off x="2179800" y="3646440"/>
            <a:ext cx="1214280" cy="111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иконка checkmark, флажок, галочка,"/>
          <p:cNvPicPr/>
          <p:nvPr/>
        </p:nvPicPr>
        <p:blipFill>
          <a:blip r:embed="rId26"/>
          <a:stretch/>
        </p:blipFill>
        <p:spPr>
          <a:xfrm>
            <a:off x="1530360" y="447840"/>
            <a:ext cx="252360" cy="2505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78"/>
          <p:cNvSpPr/>
          <p:nvPr/>
        </p:nvSpPr>
        <p:spPr>
          <a:xfrm rot="21181800">
            <a:off x="4335480" y="2833560"/>
            <a:ext cx="13644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блако 81"/>
          <p:cNvSpPr/>
          <p:nvPr/>
        </p:nvSpPr>
        <p:spPr>
          <a:xfrm flipV="1" rot="21182400">
            <a:off x="4744800" y="2549520"/>
            <a:ext cx="46080" cy="522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s1.iconbird.com/ico/0612/GooglePlusInterfaceIcons/w128h1281338911337cross.png"/>
          <p:cNvPicPr/>
          <p:nvPr/>
        </p:nvPicPr>
        <p:blipFill>
          <a:blip r:embed="rId27"/>
          <a:stretch/>
        </p:blipFill>
        <p:spPr>
          <a:xfrm>
            <a:off x="3306600" y="46512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s1.iconbird.com/ico/0612/GooglePlusInterfaceIcons/w128h1281338911337cross.png"/>
          <p:cNvPicPr/>
          <p:nvPr/>
        </p:nvPicPr>
        <p:blipFill>
          <a:blip r:embed="rId28"/>
          <a:stretch/>
        </p:blipFill>
        <p:spPr>
          <a:xfrm>
            <a:off x="5076720" y="45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s1.iconbird.com/ico/0612/GooglePlusInterfaceIcons/w128h1281338911337cross.png"/>
          <p:cNvPicPr/>
          <p:nvPr/>
        </p:nvPicPr>
        <p:blipFill>
          <a:blip r:embed="rId29"/>
          <a:stretch/>
        </p:blipFill>
        <p:spPr>
          <a:xfrm>
            <a:off x="6808680" y="44784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s1.iconbird.com/ico/0612/GooglePlusInterfaceIcons/w128h1281338911337cross.png"/>
          <p:cNvPicPr/>
          <p:nvPr/>
        </p:nvPicPr>
        <p:blipFill>
          <a:blip r:embed="rId30"/>
          <a:stretch/>
        </p:blipFill>
        <p:spPr>
          <a:xfrm>
            <a:off x="8605800" y="447840"/>
            <a:ext cx="217440" cy="21564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57"/>
          <p:cNvSpPr/>
          <p:nvPr/>
        </p:nvSpPr>
        <p:spPr>
          <a:xfrm>
            <a:off x="375768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65"/>
          <p:cNvSpPr/>
          <p:nvPr/>
        </p:nvSpPr>
        <p:spPr>
          <a:xfrm>
            <a:off x="730872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66"/>
          <p:cNvSpPr/>
          <p:nvPr/>
        </p:nvSpPr>
        <p:spPr>
          <a:xfrm>
            <a:off x="5538960" y="372420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F:\рисунки Png\0547 б.png"/>
          <p:cNvPicPr/>
          <p:nvPr/>
        </p:nvPicPr>
        <p:blipFill>
          <a:blip r:embed="rId31"/>
          <a:stretch/>
        </p:blipFill>
        <p:spPr>
          <a:xfrm>
            <a:off x="3821040" y="3736800"/>
            <a:ext cx="1292400" cy="98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F:\рисунки Png\1468.png"/>
          <p:cNvPicPr/>
          <p:nvPr/>
        </p:nvPicPr>
        <p:blipFill>
          <a:blip r:embed="rId32"/>
          <a:stretch/>
        </p:blipFill>
        <p:spPr>
          <a:xfrm>
            <a:off x="5869080" y="3797280"/>
            <a:ext cx="1038240" cy="8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рисунки Png\1468 (1) .png"/>
          <p:cNvPicPr/>
          <p:nvPr/>
        </p:nvPicPr>
        <p:blipFill>
          <a:blip r:embed="rId33"/>
          <a:stretch/>
        </p:blipFill>
        <p:spPr>
          <a:xfrm>
            <a:off x="7574040" y="3797280"/>
            <a:ext cx="1052280" cy="880920"/>
          </a:xfrm>
          <a:prstGeom prst="rect">
            <a:avLst/>
          </a:prstGeom>
          <a:ln w="0">
            <a:noFill/>
          </a:ln>
        </p:spPr>
      </p:pic>
      <p:grpSp>
        <p:nvGrpSpPr>
          <p:cNvPr id="129" name="Группа 90"/>
          <p:cNvGrpSpPr/>
          <p:nvPr/>
        </p:nvGrpSpPr>
        <p:grpSpPr>
          <a:xfrm>
            <a:off x="4177440" y="3910320"/>
            <a:ext cx="417240" cy="332640"/>
            <a:chOff x="4177440" y="3910320"/>
            <a:chExt cx="417240" cy="332640"/>
          </a:xfrm>
        </p:grpSpPr>
        <p:pic>
          <p:nvPicPr>
            <p:cNvPr id="130" name="Picture 2" descr="Iconizer.net document бесплатные иконки"/>
            <p:cNvPicPr/>
            <p:nvPr/>
          </p:nvPicPr>
          <p:blipFill>
            <a:blip r:embed="rId34"/>
            <a:stretch/>
          </p:blipFill>
          <p:spPr>
            <a:xfrm>
              <a:off x="4386600" y="3973320"/>
              <a:ext cx="185400" cy="2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http://habrastorage.org/getpro/habr/post_images/7ad/601/246/7ad60124641dbbfb3c3a500fc1f711f8.png"/>
            <p:cNvPicPr/>
            <p:nvPr/>
          </p:nvPicPr>
          <p:blipFill>
            <a:blip r:embed="rId35"/>
            <a:stretch/>
          </p:blipFill>
          <p:spPr>
            <a:xfrm rot="18888600">
              <a:off x="4195800" y="3934800"/>
              <a:ext cx="111240" cy="9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Стрелка вниз 93"/>
            <p:cNvGrpSpPr/>
            <p:nvPr/>
          </p:nvGrpSpPr>
          <p:grpSpPr>
            <a:xfrm>
              <a:off x="4242960" y="3992760"/>
              <a:ext cx="189000" cy="176760"/>
              <a:chOff x="4242960" y="3992760"/>
              <a:chExt cx="189000" cy="176760"/>
            </a:xfrm>
          </p:grpSpPr>
          <p:pic>
            <p:nvPicPr>
              <p:cNvPr id="133" name="Стрелка вниз 93" descr=""/>
              <p:cNvPicPr/>
              <p:nvPr/>
            </p:nvPicPr>
            <p:blipFill>
              <a:blip r:embed="rId36"/>
              <a:stretch/>
            </p:blipFill>
            <p:spPr>
              <a:xfrm>
                <a:off x="4242960" y="3992760"/>
                <a:ext cx="189000" cy="1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18217200">
                <a:off x="4317480" y="4024440"/>
                <a:ext cx="33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TextBox 94"/>
            <p:cNvSpPr/>
            <p:nvPr/>
          </p:nvSpPr>
          <p:spPr>
            <a:xfrm rot="20496600">
              <a:off x="4414680" y="4024080"/>
              <a:ext cx="15228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" spc="-1" strike="noStrike">
                  <a:solidFill>
                    <a:srgbClr val="000000"/>
                  </a:solidFill>
                  <a:latin typeface="Calibri"/>
                </a:rPr>
                <a:t>5 кл</a:t>
              </a:r>
              <a:r>
                <a:rPr b="0" lang="ru-RU" sz="1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r>
                <a:rPr b="1" lang="ru-RU" sz="100" spc="-1" strike="noStrike">
                  <a:solidFill>
                    <a:srgbClr val="000000"/>
                  </a:solidFill>
                  <a:latin typeface="Calibri"/>
                </a:rPr>
                <a:t>сс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6" name="Picture 2" descr="http://s1.iconbird.com/ico/0612/GooglePlusInterfaceIcons/w128h1281338911337cross.png"/>
          <p:cNvPicPr/>
          <p:nvPr/>
        </p:nvPicPr>
        <p:blipFill>
          <a:blip r:embed="rId37"/>
          <a:stretch/>
        </p:blipFill>
        <p:spPr>
          <a:xfrm>
            <a:off x="8597880" y="21114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s1.iconbird.com/ico/0612/GooglePlusInterfaceIcons/w128h1281338911337cross.png"/>
          <p:cNvPicPr/>
          <p:nvPr/>
        </p:nvPicPr>
        <p:blipFill>
          <a:blip r:embed="rId38"/>
          <a:stretch/>
        </p:blipFill>
        <p:spPr>
          <a:xfrm>
            <a:off x="6878520" y="379728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s1.iconbird.com/ico/0612/GooglePlusInterfaceIcons/w128h1281338911337cross.png"/>
          <p:cNvPicPr/>
          <p:nvPr/>
        </p:nvPicPr>
        <p:blipFill>
          <a:blip r:embed="rId39"/>
          <a:stretch/>
        </p:blipFill>
        <p:spPr>
          <a:xfrm>
            <a:off x="3301920" y="382104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s1.iconbird.com/ico/0612/GooglePlusInterfaceIcons/w128h1281338911337cross.png"/>
          <p:cNvPicPr/>
          <p:nvPr/>
        </p:nvPicPr>
        <p:blipFill>
          <a:blip r:embed="rId40"/>
          <a:stretch/>
        </p:blipFill>
        <p:spPr>
          <a:xfrm>
            <a:off x="1503360" y="382428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s1.iconbird.com/ico/0612/GooglePlusInterfaceIcons/w128h1281338911337cross.png"/>
          <p:cNvPicPr/>
          <p:nvPr/>
        </p:nvPicPr>
        <p:blipFill>
          <a:blip r:embed="rId41"/>
          <a:stretch/>
        </p:blipFill>
        <p:spPr>
          <a:xfrm>
            <a:off x="6880320" y="21319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s1.iconbird.com/ico/0612/GooglePlusInterfaceIcons/w128h1281338911337cross.png"/>
          <p:cNvPicPr/>
          <p:nvPr/>
        </p:nvPicPr>
        <p:blipFill>
          <a:blip r:embed="rId42"/>
          <a:stretch/>
        </p:blipFill>
        <p:spPr>
          <a:xfrm>
            <a:off x="5076720" y="21542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иконка checkmark, флажок, галочка,"/>
          <p:cNvPicPr/>
          <p:nvPr/>
        </p:nvPicPr>
        <p:blipFill>
          <a:blip r:embed="rId43"/>
          <a:stretch/>
        </p:blipFill>
        <p:spPr>
          <a:xfrm>
            <a:off x="5059440" y="3807000"/>
            <a:ext cx="252360" cy="250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иконка checkmark, флажок, галочка,"/>
          <p:cNvPicPr/>
          <p:nvPr/>
        </p:nvPicPr>
        <p:blipFill>
          <a:blip r:embed="rId44"/>
          <a:stretch/>
        </p:blipFill>
        <p:spPr>
          <a:xfrm>
            <a:off x="8558280" y="376236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12729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3T16:46:34Z</dcterms:created>
  <dc:creator>user</dc:creator>
  <dc:description/>
  <dc:language>en-US</dc:language>
  <cp:lastModifiedBy>pc</cp:lastModifiedBy>
  <dcterms:modified xsi:type="dcterms:W3CDTF">2020-10-17T14:48:24Z</dcterms:modified>
  <cp:revision>12</cp:revision>
  <dc:subject/>
  <dc:title>Презентация PowerPoint</dc:title>
</cp:coreProperties>
</file>